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920-57DB-4EFB-99B0-42805A1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8A4-084A-43CA-834B-589F2D97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0C5E9-DB4C-4AB9-9BBC-91DE158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4163E-D953-4887-9DAD-93AC09DA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37664-56A1-4AC3-A916-008F7AA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D6E8-3C7B-4F0F-987D-A478E3C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7C107-4651-42DB-A73B-EAF4DC7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5C29-CA7E-4794-BE40-8F7AEE8B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0937-38CE-47CB-8971-D97E3048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13AA-01E3-4368-8BB4-0B1E6ADA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DD724-68B7-46CC-B9E7-D7526E1D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375E0-DE4A-46B8-A108-F3011B5C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B53-75F3-4C57-8508-A403B840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A9467-7947-40D9-9561-C3777C30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00D1F-41D4-4C2F-B847-A24484F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0EFA4-E173-4078-86CD-3688D82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BA88B-4AF1-43BB-8416-23E3D18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6246A-D537-431D-BDC0-0F935283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D9A63-6C30-4A46-B013-E1662C0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7D5CE-797C-4F93-808A-4AB1C9DF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11C5F-5D26-43DD-9D00-C584EE7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AFD76-452D-4E71-A669-D272CBF4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51AAF-5AF1-4DB3-ABC3-FD7DF7B5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606-4F3A-406B-994E-DABCF323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9DB73-6B88-453C-8580-60518917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BC3FF-B59A-4263-ADBE-B09A8B8C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0727-3920-4DCA-A0A3-E5FC37B0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39B44-F89F-4F7C-A632-03FDF6F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62BAC-CF9D-49BC-A917-E9C03AE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9739E-E121-4D80-9B7B-902F9E03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424A5-C1F9-4EC4-8797-1474623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816CF-BE54-4F5E-B6B3-672E38A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6BCF8-12D6-4252-B4DC-317A00B5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A7F7E-27BC-4DBC-B139-8A6E722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BD1-432B-4084-BCC0-76D55131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1E0F-8D9C-4F06-8CAD-C2D92B5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46B4-CEEC-46F5-8F3E-72560D6E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27D09-0C3F-4DB6-808A-1785B1C2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B09AA-30C7-45AD-970E-F0090A06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5254A-51E9-463F-A340-2B4B81F3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4534D-6F97-45AB-91A9-A662D96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A7DD9-F992-45AF-84C0-B66AEE8E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059A1-5BFA-4667-90C0-9FB38EE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BFC60-0CFB-4772-B6FA-1B77BEA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2CDE7-304E-4C1B-AD25-3C351652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547-D32C-4586-9DEE-91595B97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E0A56-D300-4A3D-8E74-2B741F1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470F7-E3BD-40C9-83DF-DDAC935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CD50-A7E0-46D0-897D-27BAB927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46C2A-63F3-4596-A26D-F8E05C8F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43A0B-5AD6-4738-B8D0-486ECB85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4EDF7-DD0C-4FDE-9191-36C5E97C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92141-EBD1-4F7F-876C-4C1216A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F66F8-C76C-4199-B7EB-DA654F4B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21970-E2A5-46D3-856F-DF329E7A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F1B3A-5BB0-43E1-9448-C1AED528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E7A1-41B7-4FFB-8A7D-D5FBB320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7D986-35F9-4F12-A164-79BE844E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D328D-0346-4680-B0D9-B92B73C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9A563-9419-41DE-A165-02056F2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1356B-E282-41D5-A98F-90FB2CF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6697B-BB9D-4552-819A-5D814EF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01064-B843-412B-B23C-30895C6B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38F20-76EF-4AFB-B763-717344AB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C9078-62AF-4072-BABA-D6A1DC4D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8C038-19F6-4324-8D44-473F9943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9E34F-3414-4BCE-9CD4-2894C4E6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2375-B4FE-44CD-B221-07D306EA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19865-18C9-454B-8329-5ECB037F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128AF-4BDA-4857-A0DB-B843244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43912-B43D-45B1-9716-256BEA9E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8063F-CA21-49D8-98C5-B4A7B31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528E0-36F1-4F80-B126-6A10F9E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6445F-735E-4487-BEE6-F58BD1D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74488-7B54-44A1-97B7-618029D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42832-7277-4193-9443-5566F333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286E2-2C3A-42E1-BE07-810D68DB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B75B2-CD29-4C8B-8F42-1A38C18A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C3EE-4578-4C7C-B475-526DC0BC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AB757-C1BB-4426-A0A5-8D087D07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5D907-4CCF-4876-8CDE-D8A5E2DE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FF6DB-48A4-4CEF-890E-9CA0FC1D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82EC3-4555-407E-ADFD-7559B8E4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AE10E-9F3C-44FF-A3D9-BFA2EC3E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A59C6-4152-4ABA-9F43-4A07748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6E4F0-A1B7-44C7-8EC8-C278DCCF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E2018-84BD-4753-B909-657D8B0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A3783-D003-4CE8-ACCD-998C823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B889C-C2BF-4DDE-B4D8-F278932B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D278-6618-434D-B4D9-2CA3CB4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3EFB8-D2E7-4BE4-B614-3E5552F7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0587A-732D-4976-A756-C1CFA199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C5963-00C6-4F7A-A417-82503352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85FB1-D102-4FCD-9E80-966BC7B5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8E35C-EB8A-477B-9D94-DDD9DCF9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2CCF4-2D72-4B40-B793-8292351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8F039-0E5C-4CE9-84D1-FA9E65C0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689B9-4434-4116-ABA0-3352442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962A0-7DE7-4686-BC86-B012FC1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311A3-3AAD-4327-853F-B992CEF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5CCC-9041-44CE-93AB-6E4E2CE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AD057-3E7D-4C11-AE4C-6AECE26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D4574-A755-4720-A672-CF8F8D72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F0AE1-14BB-4D5A-8E0B-3ACAA0C1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3B4A2-D4F5-4CF3-9278-74BB3DBA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487BB-ECD8-4E48-B907-3EC9BC5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FE1F7-EEDC-43D4-9D9A-95D39F7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8BFF3-9783-47CF-A695-741EE04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05DF9-707C-447A-9187-D24A444A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A28F2-020F-409E-A26E-1BEA811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CD5D0-9457-4FC9-96CE-22D5C77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5DD-4614-43B3-806E-5BD4E93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CB6B-47C5-43DD-B0DA-D090D65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23397-03B2-42D8-843C-C88236F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A400A-6070-4BC7-AFE8-17CDE408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F1BDC-451D-4B1C-A1FD-59AF1898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72275-18F4-4AFB-B5AA-133D3A34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8B88F-9918-4BB3-A271-DF0AEC7A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CB5C-242E-4AE8-BBE5-FE1AC0E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FCAD-07FA-4FB0-B235-22541146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3CF-1257-4BE5-9A42-0236B08C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736F-8405-4E67-ACBE-E9406A5D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C7E7-06C6-4905-959F-03396E67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62E6-1024-40E6-ABAB-E3EB26E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C30E-218D-4111-A589-F0764F57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5308-E974-4CC1-B252-8C5716B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5237-7AEB-4764-8748-5BAE786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7CE-0E86-428F-BAA0-D6B5A3A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1308-83CE-4E21-9CC8-32D7BAC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D60D-7345-4257-9FD6-788A5BD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F424-4CD9-4162-8948-ABEB39E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4F90-C2CB-4D55-A300-15D5D9A9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B7D5-D477-45A8-86B5-0570A0F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A3DE-1C1D-4441-A40F-9CCC00CF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0C9E-52A3-4D4E-86AF-8C2BDBCA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3FB6-4374-45E5-B2AF-95DB7662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9C19-EA74-4CE2-8BC3-130E6757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4C79-C0FD-437C-A2D5-46A3654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A63-BEDC-40EC-9DA6-2D886E15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064A-3424-405E-90C8-81DDE5E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582A-173B-44D7-95DF-2CCCB018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7138-C437-4CEA-8388-A24E2772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5563-5715-4EFE-8CA1-A3A3E70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3061A-0795-4A41-8DA8-B3FA9A65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B389-4DD0-4BA5-9D88-67EC537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E070-E2B0-4970-AFE4-00346244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2F06-F8E5-4878-A364-79871C88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A6B2-79D0-43F3-BC58-9C945353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585E-A154-4E4A-942A-4D55BE34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136-8599-4D75-9C70-E61C0FD4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A82F-7134-49F8-8C69-64FB773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EC3C-6BCC-4BA5-9188-06249D9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AC45-06C9-42F8-8C48-CA11FCE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99130-98B4-4830-95EB-770155B3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8A7E-CBCE-4B83-ADEA-9A11F3A3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72D0-E002-4CC8-9D04-ED1E8AA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2D8F-4290-4868-80F4-34B7EE65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6405-655A-445B-BE3B-9BC64DD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490D2-FC38-4894-9349-E8DA88E9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12B8-0D52-4A2E-98F1-8778F528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FFD-592B-46F4-99B0-107F5DA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C9A5-59BD-4ABE-BC8D-C8349767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7187-462A-49A6-8D76-7CEFCFF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4395-E9E2-49F6-ACD7-EBCD5A76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E583-D70C-4EAB-BD5F-600A2342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DF95-D45E-4EAF-A854-C6099433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5A73-CFD1-41EC-BC69-9EC235C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6863-21AD-4E3D-A95E-01EF4F29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77AC-C331-4799-A845-A51DCE0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5B4D-5D9D-4870-B2B7-C6FFC62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4AA5-9F71-4E77-A18E-640CBC5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D36-8AA9-4549-BCBD-518BE09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646A-AB6C-487A-A541-6164C23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F59FD-523E-4232-9B53-4AF7ED3D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88E68-9067-44EB-BDFB-E18D8941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3B825-794F-4A09-9E99-72BFEF1E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BC5FC-B6D4-4694-927C-3D6C581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EDCF1-775F-4FC6-BB79-5492E04B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E24E-AE38-4C79-A2B5-47846EE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E13E5-E86A-4A23-998B-0AB22C7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B453A-B44A-44B8-89CA-4999B75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5AD3-05CD-4259-A32E-667E94A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EC7-0957-4D3E-BCB0-EA7F0B9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BE68-99E4-4418-9DBE-4CEA979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148E9-390C-45C2-B17E-A35F24C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29A34-58A1-4161-90B0-6CF0402E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079D-E3DE-4A94-B028-EBEFFE04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F599-582D-4DC5-BFCD-A3D6A0ED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88A1C-18AA-4768-B6BA-7C4D13C1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4D936-3EF3-4293-B790-C2A1F137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25D3-924C-4B56-A084-543CCA1A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04FC-00BD-4A19-BD70-213DCCCD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DA36-46BC-49D5-A88A-37883781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86E-6B6B-4D80-AAFA-8ED0A4D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82770-1017-43F6-88BF-1233A60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AC7E1-980B-46C6-BBFA-72BCB666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14CE-1797-4AD7-A13F-F93A29C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A23CA-B6A6-47DB-8D9F-0408A8C3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AC29-71B6-4CF9-8DB1-73919A2B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05CC5-88CF-430E-945E-D6250779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61B1-9CBE-4EB6-A0D7-87B3870D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C3064-D46F-4A51-94AB-D5025B7F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58D2B-4E8B-4178-83C1-92B42D1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2AC72-4C03-46B5-A8F1-2D2B0961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41BA8-EB9B-46B9-973F-3DB5D87B04C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8CB83-0A9A-4F80-A49C-307EF7C86E4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E8B8E-E6AF-435D-B712-49598E50DA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64E90-BC7D-46A5-9236-E9D6F3335D5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B8556-75FD-4F5D-96A8-4DE0C442BD2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CBA4F-FBF9-4267-9B60-E7F540F9AD6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42ADF-2E7B-4808-B914-91194E284AA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1EE7A-6551-4ADA-A090-2D5AE62CDBC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B807E-DCC9-4F91-82B7-1CAA9B21AA1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3A751-6E94-4487-BEFE-574BC8A0F2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8AFBF-561E-4CCC-9EC4-F7C6CDD70D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0BEAD-69BB-4706-A58D-D89B7BE6ABB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004CA-F504-4E48-87C9-5BEF278EC32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2A62C-B9C9-4D69-8C1A-18D46E8D8A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FC6D6-0DCE-4AB0-BEE5-199F47E67C5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C3723-5E91-4C99-8145-FE40F3FC3B0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3EA13-2327-478D-A4A7-FDAD8E2E3E3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Century Gothic"/>
              </a:rPr>
              <a:t>HOUSES AND THE CONCEPT OF HOME FOR THE BRITISH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pared by Group 2 (Olga Domnina, Anton Goncharov, Maria Kulaeva,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Daria Kurokhtina, Maria Mishakova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own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often have three or more floors, including a basement or semi-basemen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is great variety regarding both design and us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though they are usually terraced, those that are well-preserved and in a 'good' area may be thought </a:t>
            </a:r>
            <a:r>
              <a:rPr b="0" i="1" lang="en-US" sz="1800" spc="-1" strike="noStrike">
                <a:solidFill>
                  <a:srgbClr val="404040"/>
                </a:solidFill>
                <a:latin typeface="Century Gothic"/>
              </a:rPr>
              <a:t>highly desirabl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ny have been broken up into flats or rooms for rent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wo types: 'self-contained flats’ or ' bedsits'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lf-contained’ flats have washing and cooking faciliti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dsits'  i.e. bed-sitting rooms ; residents have one room to themselves and share washing and cooking facilities with other reside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lat – the lea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1"/>
          <a:stretch/>
        </p:blipFill>
        <p:spPr>
          <a:xfrm>
            <a:off x="2801880" y="2298600"/>
            <a:ext cx="3213000" cy="416736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3" descr=""/>
          <p:cNvPicPr/>
          <p:nvPr/>
        </p:nvPicPr>
        <p:blipFill>
          <a:blip r:embed="rId2"/>
          <a:stretch/>
        </p:blipFill>
        <p:spPr>
          <a:xfrm>
            <a:off x="7074000" y="2298600"/>
            <a:ext cx="30495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ck of flat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ocated far beyond the city centr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Residential building consisting of apartmen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oncrete is the most common building materi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n walls with extremely poor soundproofing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elevator is accommodated due to number of floor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Содержимое 4" descr="http://3.bp.blogspot.com/-CL4cD0wVXtw/UZTGXNlMctI/AAAAAAAAAF0/VzfcVhiiiEI/s640/furniture.png"/>
          <p:cNvPicPr/>
          <p:nvPr/>
        </p:nvPicPr>
        <p:blipFill>
          <a:blip r:embed="rId1"/>
          <a:srcRect l="0" t="0" r="0" b="9850"/>
          <a:stretch/>
        </p:blipFill>
        <p:spPr>
          <a:xfrm>
            <a:off x="2589120" y="2340000"/>
            <a:ext cx="4313160" cy="3171960"/>
          </a:xfrm>
          <a:prstGeom prst="rect">
            <a:avLst/>
          </a:prstGeom>
          <a:ln w="0">
            <a:noFill/>
          </a:ln>
        </p:spPr>
      </p:pic>
      <p:pic>
        <p:nvPicPr>
          <p:cNvPr id="1211" name="Содержимое 5" descr="https://fs00.infourok.ru/images/doc/201/229673/img4.jpg"/>
          <p:cNvPicPr/>
          <p:nvPr/>
        </p:nvPicPr>
        <p:blipFill>
          <a:blip r:embed="rId2"/>
          <a:stretch/>
        </p:blipFill>
        <p:spPr>
          <a:xfrm>
            <a:off x="7167600" y="2332080"/>
            <a:ext cx="4287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s and flats are described in terms of numbers of bedrooms, e.g. a two-bedroom flat or a four-bedroom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 two-floor houses living room and kitchen are downstairs, bedrooms and bathroom are upstai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hildren usually have their own bedroom or may share a room with a brother or sister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could be a basement – a part of a building consisting of rooms that are partly or completely below the level of the gr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tudio is a small flat designed to be lived in by one or two people. It usually has one large room for sleeping and living in, a bathroom and possibly a small separate kitche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ew facts about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owning and ren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desire to own the place where you live is almost universal in Britai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 prices are hig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bout 70% of all the houses in the country are occupied by their owners and almost all of these were bought with a mortgag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alf of these are owned by people who have borrowed 80% (or even more) of their price and are now paying this money back month by mont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normal arrangement is for the borrower to pay back the money over a period of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wenty to twenty-five yea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fore the end of the 20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entury, most working-class people lived in rented accommod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2" descr=""/>
          <p:cNvPicPr/>
          <p:nvPr/>
        </p:nvPicPr>
        <p:blipFill>
          <a:blip r:embed="rId1"/>
          <a:stretch/>
        </p:blipFill>
        <p:spPr>
          <a:xfrm>
            <a:off x="2343240" y="1042920"/>
            <a:ext cx="7245360" cy="434520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1"/>
          <p:cNvSpPr/>
          <p:nvPr/>
        </p:nvSpPr>
        <p:spPr>
          <a:xfrm>
            <a:off x="3630600" y="5643720"/>
            <a:ext cx="46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ource: General Household Survey(989-90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262626"/>
                </a:solidFill>
                <a:latin typeface="Century Gothic"/>
              </a:rPr>
              <a:t>Cost of Houses</a:t>
            </a:r>
            <a:r>
              <a:rPr b="0" lang="en-US" sz="2300" spc="-1" strike="noStrike">
                <a:solidFill>
                  <a:srgbClr val="262626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 big problem in England is the rising cost of houses.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1989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first-time buyers paid an average of around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40,000,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1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this had more than doubled 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85,000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nd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6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151,565.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2263320" y="2133360"/>
            <a:ext cx="4638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0,000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 over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20,000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2,92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2,15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69,07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39,12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68,57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6945480" y="2125440"/>
            <a:ext cx="4559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3,244 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5,697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70,650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43,512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74,05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ypes of hou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detached house – the mo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emi-detach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errac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own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ck of flats – the lea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eferences of the British are determined by their desire for privacy and the importance attached to ownership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detached house – the mo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1" name="Picture 2" descr="Картинки по запросу detached house перевод"/>
          <p:cNvPicPr/>
          <p:nvPr/>
        </p:nvPicPr>
        <p:blipFill>
          <a:blip r:embed="rId1"/>
          <a:stretch/>
        </p:blipFill>
        <p:spPr>
          <a:xfrm>
            <a:off x="2714760" y="2828880"/>
            <a:ext cx="3733560" cy="24987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8" descr="Картинки по запросу detached house"/>
          <p:cNvPicPr/>
          <p:nvPr/>
        </p:nvPicPr>
        <p:blipFill>
          <a:blip r:embed="rId2"/>
          <a:stretch/>
        </p:blipFill>
        <p:spPr>
          <a:xfrm>
            <a:off x="6724800" y="2828880"/>
            <a:ext cx="33350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raditional building materials are used: brick for walls and slate for the roo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rregular, “non-classical” shape with all those little corners, making the house feel “cozy”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large front garden with trees and bushes, evoking not only the countryside but also giving greater privac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garage is hidden away so that it is not too obvious and doesn’t spoil the rural feel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front door cannot be easily seen from the stree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o expensive for most peop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semi-detached house – the second best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7" name="Picture 6" descr=""/>
          <p:cNvPicPr/>
          <p:nvPr/>
        </p:nvPicPr>
        <p:blipFill>
          <a:blip r:embed="rId1"/>
          <a:stretch/>
        </p:blipFill>
        <p:spPr>
          <a:xfrm>
            <a:off x="2592360" y="2533680"/>
            <a:ext cx="3681360" cy="27576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" descr="Картинки по запросу semi-detached house"/>
          <p:cNvPicPr/>
          <p:nvPr/>
        </p:nvPicPr>
        <p:blipFill>
          <a:blip r:embed="rId2"/>
          <a:stretch/>
        </p:blipFill>
        <p:spPr>
          <a:xfrm>
            <a:off x="6669000" y="2533680"/>
            <a:ext cx="41436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Semi-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One building with two separate household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is the mirror of the other, both inside and outsi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be found in the suburbs of cities and the outskirts of towns all over Brita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has a separate front garde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t the sides, there is access to the back, where two separate gardens can also be f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rick is the most common building materi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ypical demi-detached house has two floors and three bedroo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erraced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Рисунок 2" descr=""/>
          <p:cNvPicPr/>
          <p:nvPr/>
        </p:nvPicPr>
        <p:blipFill>
          <a:blip r:embed="rId1"/>
          <a:stretch/>
        </p:blipFill>
        <p:spPr>
          <a:xfrm>
            <a:off x="2592360" y="1793880"/>
            <a:ext cx="4309920" cy="3319560"/>
          </a:xfrm>
          <a:prstGeom prst="rect">
            <a:avLst/>
          </a:prstGeom>
          <a:ln w="0">
            <a:noFill/>
          </a:ln>
        </p:spPr>
      </p:pic>
      <p:pic>
        <p:nvPicPr>
          <p:cNvPr id="1194" name="Рисунок 4" descr=""/>
          <p:cNvPicPr/>
          <p:nvPr/>
        </p:nvPicPr>
        <p:blipFill>
          <a:blip r:embed="rId2"/>
          <a:stretch/>
        </p:blipFill>
        <p:spPr>
          <a:xfrm>
            <a:off x="7066080" y="1793880"/>
            <a:ext cx="4254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errac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wo shared (party) walls except for end-of-terrace house unit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ndividual front doors and pedestrian access to dwellings, either directly off the street or from shared driveways or accesswa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typically one to four store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hey can be converted into flats or remain as individual house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ar parking is accommodated within the house (integral garage), in-curtilage(within shared access) or on stree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a private rear garden or patio and a front entrance are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onsistency in front façade design, building line and skylin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learly defined fronts and backs with fronts addressing public streets, spaces or accessways. Backs are contained to the rear, and are usually back-to-back in a perimeter block arrangement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          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own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Рисунок 1" descr=""/>
          <p:cNvPicPr/>
          <p:nvPr/>
        </p:nvPicPr>
        <p:blipFill>
          <a:blip r:embed="rId1"/>
          <a:stretch/>
        </p:blipFill>
        <p:spPr>
          <a:xfrm>
            <a:off x="987480" y="2251080"/>
            <a:ext cx="4695840" cy="313056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2" descr=""/>
          <p:cNvPicPr/>
          <p:nvPr/>
        </p:nvPicPr>
        <p:blipFill>
          <a:blip r:embed="rId2"/>
          <a:stretch/>
        </p:blipFill>
        <p:spPr>
          <a:xfrm>
            <a:off x="6161040" y="2251080"/>
            <a:ext cx="4670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3T06:19:07Z</dcterms:created>
  <dc:creator>Kurokhtina, Daria</dc:creator>
  <dc:description/>
  <dc:language>en-US</dc:language>
  <cp:lastModifiedBy>Kurokhtina, Daria</cp:lastModifiedBy>
  <dcterms:modified xsi:type="dcterms:W3CDTF">2017-03-29T12:37:52Z</dcterms:modified>
  <cp:revision>25</cp:revision>
  <dc:subject/>
  <dc:title>HOUSES AND THE CONCEPT OF HOME FOR THE BRITISH</dc:title>
</cp:coreProperties>
</file>